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1D24-E971-4602-BB3D-C14B7D78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8BE9-E5F9-4529-82BE-49AA4668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46DD-995E-4897-9447-FBA149EB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AF49-7C00-4CC6-928E-04D02AAD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600D-240C-4973-ACB8-78CE94D9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8C34-ECA4-4E7D-B5D7-0E354C06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4D06-010C-4C0F-8F7F-28A0EEC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85BB-BD0E-4696-A714-A48042E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8B2-FBE4-4F3C-877E-9A1835C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B0AD-3748-462B-8206-DAB66F80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5FB-922E-4A23-9AF0-3724C47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38EC-33A1-4836-AE23-0620648C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E10C-2BFF-4019-A3C8-1403F78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037-F210-4D45-B869-680767ED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FCA-4B05-4E46-AB67-69D7145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4AF-72F9-4D7C-8B7D-C8FF5C8B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D8E9-9DA9-4975-864D-17880BDC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6345-AED6-42F9-9CEF-95CD1D5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05B7-E1A0-4F64-B601-A263DEC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239F-DCDC-4DFD-B205-2D62DF5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8183-DA1A-422E-AC8D-D2A050F6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E2F9-9640-4898-9F7D-C59B0F8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3233-951C-453B-A4D9-1EB0148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73AE-8A94-45E8-81E3-8A8D9A81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DBE-F114-4130-94A4-2A3370F729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2F4-BD43-4AD7-A60D-BE15D37FBF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iom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3454200" y="83808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rey Ha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160" y="36000"/>
            <a:ext cx="3130920" cy="2919240"/>
            <a:chOff x="182160" y="36000"/>
            <a:chExt cx="3130920" cy="2919240"/>
          </a:xfrm>
        </p:grpSpPr>
        <p:pic>
          <p:nvPicPr>
            <p:cNvPr id="129" name="Picture 28" descr="ANd9GcQskrXrhCj9mNVI5P5LFwpV4AHRC6Qkf9c_Fgb4A2QoebSmLkEf"/>
            <p:cNvPicPr/>
            <p:nvPr/>
          </p:nvPicPr>
          <p:blipFill>
            <a:blip r:embed="rId1"/>
            <a:stretch/>
          </p:blipFill>
          <p:spPr>
            <a:xfrm rot="2060400">
              <a:off x="456840" y="609480"/>
              <a:ext cx="2581200" cy="17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29"/>
            <p:cNvSpPr/>
            <p:nvPr/>
          </p:nvSpPr>
          <p:spPr>
            <a:xfrm rot="1980000">
              <a:off x="660600" y="220968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yot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505320"/>
            <a:ext cx="2438280" cy="2273040"/>
            <a:chOff x="762120" y="3505320"/>
            <a:chExt cx="2438280" cy="2273040"/>
          </a:xfrm>
        </p:grpSpPr>
        <p:pic>
          <p:nvPicPr>
            <p:cNvPr id="132" name="Picture 34" descr="Under-Water-Animals"/>
            <p:cNvPicPr/>
            <p:nvPr/>
          </p:nvPicPr>
          <p:blipFill>
            <a:blip r:embed="rId2"/>
            <a:stretch/>
          </p:blipFill>
          <p:spPr>
            <a:xfrm>
              <a:off x="762120" y="350532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35"/>
            <p:cNvSpPr/>
            <p:nvPr/>
          </p:nvSpPr>
          <p:spPr>
            <a:xfrm>
              <a:off x="1196280" y="541008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ting ra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61120" y="-50760"/>
            <a:ext cx="3146400" cy="3013200"/>
            <a:chOff x="6261120" y="-50760"/>
            <a:chExt cx="3146400" cy="3013200"/>
          </a:xfrm>
        </p:grpSpPr>
        <p:pic>
          <p:nvPicPr>
            <p:cNvPr id="135" name="Picture 37" descr="ANd9GcTZCZYvRzyqsAIbrSnMUbG86n9YR_5D30hsndDySkAbSkYr90yMHA"/>
            <p:cNvPicPr/>
            <p:nvPr/>
          </p:nvPicPr>
          <p:blipFill>
            <a:blip r:embed="rId3"/>
            <a:stretch/>
          </p:blipFill>
          <p:spPr>
            <a:xfrm rot="19554000">
              <a:off x="6524280" y="5335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38"/>
            <p:cNvSpPr/>
            <p:nvPr/>
          </p:nvSpPr>
          <p:spPr>
            <a:xfrm rot="19504800">
              <a:off x="8108280" y="236196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yena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58080" y="2230560"/>
            <a:ext cx="3882960" cy="3615840"/>
            <a:chOff x="4258080" y="2230560"/>
            <a:chExt cx="3882960" cy="3615840"/>
          </a:xfrm>
        </p:grpSpPr>
        <p:sp>
          <p:nvSpPr>
            <p:cNvPr id="138" name="Text Box 32"/>
            <p:cNvSpPr/>
            <p:nvPr/>
          </p:nvSpPr>
          <p:spPr>
            <a:xfrm rot="19222200">
              <a:off x="6147360" y="4632840"/>
              <a:ext cx="202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rca / killer wha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 rot="19543800">
              <a:off x="4572000" y="2742840"/>
              <a:ext cx="2390760" cy="1852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ep sea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43600" y="228600"/>
            <a:ext cx="28195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ou might find weird animals 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ep se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se animals eat plants or animals that sink down the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water pressure down there is very strong/heav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5920" y="0"/>
            <a:ext cx="361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ar the  Galapagos is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pacific oce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447920"/>
            <a:ext cx="2333160" cy="2578320"/>
            <a:chOff x="457200" y="1447920"/>
            <a:chExt cx="2333160" cy="2578320"/>
          </a:xfrm>
        </p:grpSpPr>
        <p:pic>
          <p:nvPicPr>
            <p:cNvPr id="275" name="Picture 6" descr="ANd9GcR-7FQ0W_5d2TI1XPwG_H5u91TKibSq2Q97ZVLhZJNVlV-D5ykf0w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23241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9"/>
            <p:cNvSpPr/>
            <p:nvPr/>
          </p:nvSpPr>
          <p:spPr>
            <a:xfrm>
              <a:off x="533880" y="36579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other angler 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124080" y="1905120"/>
            <a:ext cx="1524240" cy="2577960"/>
            <a:chOff x="3124080" y="1905120"/>
            <a:chExt cx="1524240" cy="2577960"/>
          </a:xfrm>
        </p:grpSpPr>
        <p:sp>
          <p:nvSpPr>
            <p:cNvPr id="278" name="Text Box 10"/>
            <p:cNvSpPr/>
            <p:nvPr/>
          </p:nvSpPr>
          <p:spPr>
            <a:xfrm>
              <a:off x="3234240" y="4114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gler 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79" name="Picture 18" descr="ANd9GcRvyi_5USivW0XAEDhyXrPQJT0ngWF099cW0m7NaQedHB9xnvF7"/>
            <p:cNvPicPr/>
            <p:nvPr/>
          </p:nvPicPr>
          <p:blipFill>
            <a:blip r:embed="rId2"/>
            <a:stretch/>
          </p:blipFill>
          <p:spPr>
            <a:xfrm>
              <a:off x="3124080" y="1905120"/>
              <a:ext cx="152424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5638680" y="1828800"/>
            <a:ext cx="2908080" cy="2120760"/>
            <a:chOff x="5638680" y="1828800"/>
            <a:chExt cx="2908080" cy="2120760"/>
          </a:xfrm>
        </p:grpSpPr>
        <p:pic>
          <p:nvPicPr>
            <p:cNvPr id="281" name="Picture 8" descr="ANd9GcQ9mLXTiFbHqZ6jM4r4D5vArW_II1nn6qpJkkQX-RHaQUVtxIIc"/>
            <p:cNvPicPr/>
            <p:nvPr/>
          </p:nvPicPr>
          <p:blipFill>
            <a:blip r:embed="rId3"/>
            <a:stretch/>
          </p:blipFill>
          <p:spPr>
            <a:xfrm flipH="1">
              <a:off x="5638680" y="1828800"/>
              <a:ext cx="24242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9"/>
            <p:cNvSpPr/>
            <p:nvPr/>
          </p:nvSpPr>
          <p:spPr>
            <a:xfrm>
              <a:off x="6570720" y="35812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dult tapewor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876920" y="4419720"/>
            <a:ext cx="2466720" cy="2228760"/>
            <a:chOff x="4876920" y="4419720"/>
            <a:chExt cx="2466720" cy="2228760"/>
          </a:xfrm>
        </p:grpSpPr>
        <p:pic>
          <p:nvPicPr>
            <p:cNvPr id="284" name="Picture 21" descr="ANd9GcTss5PY-Tvy2KncSvKnXxjGhIU2Ah_ah1ilLVQaGfzMNbsSknfn"/>
            <p:cNvPicPr/>
            <p:nvPr/>
          </p:nvPicPr>
          <p:blipFill>
            <a:blip r:embed="rId4"/>
            <a:stretch/>
          </p:blipFill>
          <p:spPr>
            <a:xfrm>
              <a:off x="4876920" y="4419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2"/>
            <p:cNvSpPr/>
            <p:nvPr/>
          </p:nvSpPr>
          <p:spPr>
            <a:xfrm>
              <a:off x="5202720" y="628020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emon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ver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562720" y="228240"/>
            <a:ext cx="3200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 that live in a river do not live in oce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 in this biome mostly spends its time on l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rivers have different orga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053360" y="792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Mississippi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Missouri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88400" y="1219320"/>
            <a:ext cx="1602720" cy="2743200"/>
            <a:chOff x="788400" y="1219320"/>
            <a:chExt cx="1602720" cy="2743200"/>
          </a:xfrm>
        </p:grpSpPr>
        <p:pic>
          <p:nvPicPr>
            <p:cNvPr id="293" name="Picture 12" descr="A686B260-9284-74F6-B0D2174F83100437"/>
            <p:cNvPicPr/>
            <p:nvPr/>
          </p:nvPicPr>
          <p:blipFill>
            <a:blip r:embed="rId1"/>
            <a:stretch/>
          </p:blipFill>
          <p:spPr>
            <a:xfrm>
              <a:off x="838080" y="1828800"/>
              <a:ext cx="142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3"/>
            <p:cNvSpPr/>
            <p:nvPr/>
          </p:nvSpPr>
          <p:spPr>
            <a:xfrm>
              <a:off x="788400" y="1219320"/>
              <a:ext cx="160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iver dolphi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34120" y="3581280"/>
            <a:ext cx="2762280" cy="2152800"/>
            <a:chOff x="5334120" y="3581280"/>
            <a:chExt cx="2762280" cy="2152800"/>
          </a:xfrm>
        </p:grpSpPr>
        <p:pic>
          <p:nvPicPr>
            <p:cNvPr id="296" name="Picture 15" descr="ANd9GcQSN1dQQ_XVDE0GwC-ZzAFd1P7t3LGzoUH5cRSLzkBocohNMbtANQ"/>
            <p:cNvPicPr/>
            <p:nvPr/>
          </p:nvPicPr>
          <p:blipFill>
            <a:blip r:embed="rId2"/>
            <a:stretch/>
          </p:blipFill>
          <p:spPr>
            <a:xfrm>
              <a:off x="5334120" y="3581280"/>
              <a:ext cx="2762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6"/>
            <p:cNvSpPr/>
            <p:nvPr/>
          </p:nvSpPr>
          <p:spPr>
            <a:xfrm>
              <a:off x="5723280" y="536580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ile crocodil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1752480"/>
            <a:ext cx="2466720" cy="2228760"/>
            <a:chOff x="2743200" y="1752480"/>
            <a:chExt cx="2466720" cy="2228760"/>
          </a:xfrm>
        </p:grpSpPr>
        <p:pic>
          <p:nvPicPr>
            <p:cNvPr id="299" name="Picture 20" descr="ANd9GcRxl_US7arLKF8JIWpcj2TDcO0E3zuRrJp2iy7yIx90Z315v69ibg"/>
            <p:cNvPicPr/>
            <p:nvPr/>
          </p:nvPicPr>
          <p:blipFill>
            <a:blip r:embed="rId3"/>
            <a:stretch/>
          </p:blipFill>
          <p:spPr>
            <a:xfrm>
              <a:off x="2743200" y="175248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1"/>
            <p:cNvSpPr/>
            <p:nvPr/>
          </p:nvSpPr>
          <p:spPr>
            <a:xfrm>
              <a:off x="3153960" y="36129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iver snak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76520" y="4114800"/>
            <a:ext cx="2485800" cy="2381400"/>
            <a:chOff x="1676520" y="4114800"/>
            <a:chExt cx="2485800" cy="2381400"/>
          </a:xfrm>
        </p:grpSpPr>
        <p:pic>
          <p:nvPicPr>
            <p:cNvPr id="302" name="Picture 23" descr="ANd9GcRGgBU2DqY8osiuQS0gGZQ0xy6lNIJtY9wG6PL3bBAMlhNk5R9KYw"/>
            <p:cNvPicPr/>
            <p:nvPr/>
          </p:nvPicPr>
          <p:blipFill>
            <a:blip r:embed="rId4"/>
            <a:stretch/>
          </p:blipFill>
          <p:spPr>
            <a:xfrm>
              <a:off x="1676520" y="4114800"/>
              <a:ext cx="24858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4"/>
            <p:cNvSpPr/>
            <p:nvPr/>
          </p:nvSpPr>
          <p:spPr>
            <a:xfrm>
              <a:off x="1872360" y="61279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alley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4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asslan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1"/>
          <p:cNvGrpSpPr/>
          <p:nvPr/>
        </p:nvGrpSpPr>
        <p:grpSpPr>
          <a:xfrm>
            <a:off x="406800" y="-214200"/>
            <a:ext cx="2684880" cy="2552400"/>
            <a:chOff x="406800" y="-214200"/>
            <a:chExt cx="2684880" cy="2552400"/>
          </a:xfrm>
        </p:grpSpPr>
        <p:pic>
          <p:nvPicPr>
            <p:cNvPr id="142" name="Picture 12" descr="ANd9GcQpLsX9VEg54VxxmpXnEgRD0ebNlXqWfVp6q_1dGzg1N4PaaKMOog"/>
            <p:cNvPicPr/>
            <p:nvPr/>
          </p:nvPicPr>
          <p:blipFill>
            <a:blip r:embed="rId1"/>
            <a:stretch/>
          </p:blipFill>
          <p:spPr>
            <a:xfrm rot="3624600">
              <a:off x="489960" y="347400"/>
              <a:ext cx="21240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3"/>
            <p:cNvSpPr/>
            <p:nvPr/>
          </p:nvSpPr>
          <p:spPr>
            <a:xfrm rot="1795800">
              <a:off x="2153880" y="19476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Lion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2"/>
          <p:cNvGrpSpPr/>
          <p:nvPr/>
        </p:nvGrpSpPr>
        <p:grpSpPr>
          <a:xfrm>
            <a:off x="83160" y="1531440"/>
            <a:ext cx="3240720" cy="3413880"/>
            <a:chOff x="83160" y="1531440"/>
            <a:chExt cx="3240720" cy="3413880"/>
          </a:xfrm>
        </p:grpSpPr>
        <p:pic>
          <p:nvPicPr>
            <p:cNvPr id="145" name="Picture 15" descr="endangered-animals-african-grasslands-5"/>
            <p:cNvPicPr/>
            <p:nvPr/>
          </p:nvPicPr>
          <p:blipFill>
            <a:blip r:embed="rId2"/>
            <a:stretch/>
          </p:blipFill>
          <p:spPr>
            <a:xfrm rot="3070800">
              <a:off x="223560" y="2361960"/>
              <a:ext cx="2971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6"/>
            <p:cNvSpPr/>
            <p:nvPr/>
          </p:nvSpPr>
          <p:spPr>
            <a:xfrm rot="2908800">
              <a:off x="46800" y="361980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hino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Text Box 17"/>
          <p:cNvSpPr/>
          <p:nvPr/>
        </p:nvSpPr>
        <p:spPr>
          <a:xfrm>
            <a:off x="6550200" y="21337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418080" y="2743200"/>
            <a:ext cx="27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location is Afr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46080" y="920520"/>
            <a:ext cx="3299400" cy="2415240"/>
            <a:chOff x="2746080" y="920520"/>
            <a:chExt cx="3299400" cy="2415240"/>
          </a:xfrm>
        </p:grpSpPr>
        <p:pic>
          <p:nvPicPr>
            <p:cNvPr id="150" name="Picture 7" descr="ANd9GcSyt4xgjmVTQURo8Vlk9YKrspm3X6nMbjgQDoa7JvTzJcwcZJI4"/>
            <p:cNvPicPr/>
            <p:nvPr/>
          </p:nvPicPr>
          <p:blipFill>
            <a:blip r:embed="rId3"/>
            <a:stretch/>
          </p:blipFill>
          <p:spPr>
            <a:xfrm rot="20665800">
              <a:off x="2895480" y="1294920"/>
              <a:ext cx="30006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"/>
            <p:cNvSpPr/>
            <p:nvPr/>
          </p:nvSpPr>
          <p:spPr>
            <a:xfrm rot="20308800">
              <a:off x="4401720" y="281880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bea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Text Box 19"/>
          <p:cNvSpPr/>
          <p:nvPr/>
        </p:nvSpPr>
        <p:spPr>
          <a:xfrm>
            <a:off x="5144760" y="3203640"/>
            <a:ext cx="41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econd location is South Dako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Nebraska, and Kans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3536640" y="3970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353680" y="4572000"/>
            <a:ext cx="50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ioneers use to call this” the sea of gras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2349720" y="49849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place gets very little r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2278440" y="54421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st of this is fa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89600" y="26640"/>
            <a:ext cx="2165400" cy="2171160"/>
            <a:chOff x="6789600" y="26640"/>
            <a:chExt cx="2165400" cy="217116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 rot="1651800">
              <a:off x="7072200" y="304920"/>
              <a:ext cx="160020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438200">
              <a:off x="6917760" y="113004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A wol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i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864040" y="304920"/>
            <a:ext cx="2613240" cy="2197080"/>
            <a:chOff x="5864040" y="304920"/>
            <a:chExt cx="2613240" cy="2197080"/>
          </a:xfrm>
        </p:grpSpPr>
        <p:pic>
          <p:nvPicPr>
            <p:cNvPr id="162" name="Picture 16" descr="ANd9GcQWep-XuG8dPKfH3gfU4aF7e4A1Re25_BR3Bx5FCBnMjSxN7UEk"/>
            <p:cNvPicPr/>
            <p:nvPr/>
          </p:nvPicPr>
          <p:blipFill>
            <a:blip r:embed="rId1"/>
            <a:stretch/>
          </p:blipFill>
          <p:spPr>
            <a:xfrm>
              <a:off x="5943600" y="304920"/>
              <a:ext cx="25336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5864040" y="21337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Moose is eating gras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" y="609480"/>
            <a:ext cx="2533680" cy="2273400"/>
            <a:chOff x="228600" y="609480"/>
            <a:chExt cx="2533680" cy="2273400"/>
          </a:xfrm>
        </p:grpSpPr>
        <p:pic>
          <p:nvPicPr>
            <p:cNvPr id="165" name="Picture 19" descr="ANd9GcRaanHzBgy9SYQAl8AlcIVBNonEqReDqL9Rbdxk6GPr-UijcvfmHQ"/>
            <p:cNvPicPr/>
            <p:nvPr/>
          </p:nvPicPr>
          <p:blipFill>
            <a:blip r:embed="rId2"/>
            <a:stretch/>
          </p:blipFill>
          <p:spPr>
            <a:xfrm>
              <a:off x="228600" y="609480"/>
              <a:ext cx="2533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20"/>
            <p:cNvSpPr/>
            <p:nvPr/>
          </p:nvSpPr>
          <p:spPr>
            <a:xfrm>
              <a:off x="336240" y="251460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Polar bear cub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00560" y="914400"/>
            <a:ext cx="1171080" cy="2244600"/>
            <a:chOff x="3400560" y="914400"/>
            <a:chExt cx="1171080" cy="2244600"/>
          </a:xfrm>
        </p:grpSpPr>
        <p:pic>
          <p:nvPicPr>
            <p:cNvPr id="168" name="Picture 22" descr="lapugle234afront"/>
            <p:cNvPicPr/>
            <p:nvPr/>
          </p:nvPicPr>
          <p:blipFill>
            <a:blip r:embed="rId3"/>
            <a:stretch/>
          </p:blipFill>
          <p:spPr>
            <a:xfrm>
              <a:off x="3493800" y="914400"/>
              <a:ext cx="107784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3"/>
            <p:cNvSpPr/>
            <p:nvPr/>
          </p:nvSpPr>
          <p:spPr>
            <a:xfrm>
              <a:off x="3400560" y="279072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Artic ow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638680" y="2666880"/>
            <a:ext cx="2286000" cy="1924200"/>
            <a:chOff x="5638680" y="2666880"/>
            <a:chExt cx="2286000" cy="1924200"/>
          </a:xfrm>
        </p:grpSpPr>
        <p:pic>
          <p:nvPicPr>
            <p:cNvPr id="171" name="Picture 25" descr="ANd9GcQdHNFrq1BllNFdpoLcX47asY3fUGKv_sanSYgXjcxJFGHvP1w8"/>
            <p:cNvPicPr/>
            <p:nvPr/>
          </p:nvPicPr>
          <p:blipFill>
            <a:blip r:embed="rId4"/>
            <a:stretch/>
          </p:blipFill>
          <p:spPr>
            <a:xfrm>
              <a:off x="5638680" y="2666880"/>
              <a:ext cx="2286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6"/>
            <p:cNvSpPr/>
            <p:nvPr/>
          </p:nvSpPr>
          <p:spPr>
            <a:xfrm>
              <a:off x="6300000" y="422280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A el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" name="Text Box 27"/>
          <p:cNvSpPr/>
          <p:nvPr/>
        </p:nvSpPr>
        <p:spPr>
          <a:xfrm>
            <a:off x="5869080" y="50292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cation Canad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other location is Russ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2798280" y="4603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eeee"/>
                </a:solidFill>
                <a:latin typeface="Tahoma"/>
              </a:rPr>
              <a:t>Fa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651040" y="5137200"/>
            <a:ext cx="30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2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eeee"/>
                </a:solidFill>
                <a:latin typeface="Tahoma"/>
              </a:rPr>
              <a:t>The animals that live in this place has a lot of f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ral reef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great barrier reef is in Austral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st reefs are in shallow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380880"/>
            <a:ext cx="2600280" cy="2152800"/>
            <a:chOff x="533520" y="380880"/>
            <a:chExt cx="2600280" cy="2152800"/>
          </a:xfrm>
        </p:grpSpPr>
        <p:pic>
          <p:nvPicPr>
            <p:cNvPr id="179" name="Picture 5" descr="ANd9GcSSkcz5P9iYR869Xn6RkVPfkMg4yRz1jvPYOcc1rwxlXKCYuW97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2600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6"/>
            <p:cNvSpPr/>
            <p:nvPr/>
          </p:nvSpPr>
          <p:spPr>
            <a:xfrm>
              <a:off x="801000" y="216540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r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3360" y="-100440"/>
            <a:ext cx="3209400" cy="3491640"/>
            <a:chOff x="6093360" y="-100440"/>
            <a:chExt cx="3209400" cy="3491640"/>
          </a:xfrm>
        </p:grpSpPr>
        <p:pic>
          <p:nvPicPr>
            <p:cNvPr id="182" name="Picture 8" descr="ANd9GcSKyTnrFJlPPpqhairBEivF9lkse8SjW8_iH8KtYBCxwklCyGBD"/>
            <p:cNvPicPr/>
            <p:nvPr/>
          </p:nvPicPr>
          <p:blipFill>
            <a:blip r:embed="rId2"/>
            <a:stretch/>
          </p:blipFill>
          <p:spPr>
            <a:xfrm rot="19368600">
              <a:off x="6400800" y="45684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9"/>
            <p:cNvSpPr/>
            <p:nvPr/>
          </p:nvSpPr>
          <p:spPr>
            <a:xfrm rot="18894000">
              <a:off x="7153920" y="2238840"/>
              <a:ext cx="23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sh in the coral ree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85800" y="2590920"/>
            <a:ext cx="2467080" cy="2349360"/>
            <a:chOff x="685800" y="2590920"/>
            <a:chExt cx="2467080" cy="2349360"/>
          </a:xfrm>
        </p:grpSpPr>
        <p:pic>
          <p:nvPicPr>
            <p:cNvPr id="185" name="Picture 11" descr="ANd9GcQ780LIkyJrF_ybt2oWaguOPl3uQIJKg3DAioUSRV_6uN_UNqqS"/>
            <p:cNvPicPr/>
            <p:nvPr/>
          </p:nvPicPr>
          <p:blipFill>
            <a:blip r:embed="rId3"/>
            <a:stretch/>
          </p:blipFill>
          <p:spPr>
            <a:xfrm>
              <a:off x="685800" y="25909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2"/>
            <p:cNvSpPr/>
            <p:nvPr/>
          </p:nvSpPr>
          <p:spPr>
            <a:xfrm>
              <a:off x="1345680" y="45720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jelly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5470560" y="3284640"/>
            <a:ext cx="29113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efs are most homes to fish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efs are important ecosystem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 around reefs might find a lot of 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29000" y="1371600"/>
            <a:ext cx="2629080" cy="2152800"/>
            <a:chOff x="3429000" y="1371600"/>
            <a:chExt cx="2629080" cy="2152800"/>
          </a:xfrm>
        </p:grpSpPr>
        <p:pic>
          <p:nvPicPr>
            <p:cNvPr id="190" name="Picture 17" descr="ANd9GcS20Vms2rIs3rFnoYJgraFrf5Fi-60yPnd1Q0G9s5zn0HzEfDWJKg"/>
            <p:cNvPicPr/>
            <p:nvPr/>
          </p:nvPicPr>
          <p:blipFill>
            <a:blip r:embed="rId4"/>
            <a:stretch/>
          </p:blipFill>
          <p:spPr>
            <a:xfrm>
              <a:off x="3429000" y="137160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8"/>
            <p:cNvSpPr/>
            <p:nvPr/>
          </p:nvSpPr>
          <p:spPr>
            <a:xfrm>
              <a:off x="3784680" y="315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ee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sser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560" y="4038480"/>
            <a:ext cx="38098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serts get very little rain or show each yea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desserts are very roc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serts have high temperatures some  actually have cold weather at n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560" y="380880"/>
            <a:ext cx="2498760" cy="2273400"/>
            <a:chOff x="601560" y="380880"/>
            <a:chExt cx="2498760" cy="2273400"/>
          </a:xfrm>
        </p:grpSpPr>
        <p:pic>
          <p:nvPicPr>
            <p:cNvPr id="195" name="Picture 5" descr="ANd9GcQ-FSrvtcxSzUoDHwDseaWJQNX-CFgg_sIMYeuLbVEPiJICf1JD"/>
            <p:cNvPicPr/>
            <p:nvPr/>
          </p:nvPicPr>
          <p:blipFill>
            <a:blip r:embed="rId1"/>
            <a:stretch/>
          </p:blipFill>
          <p:spPr>
            <a:xfrm>
              <a:off x="685800" y="380880"/>
              <a:ext cx="236232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6"/>
            <p:cNvSpPr/>
            <p:nvPr/>
          </p:nvSpPr>
          <p:spPr>
            <a:xfrm>
              <a:off x="601560" y="228600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ssert horned lizar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24480" y="363600"/>
            <a:ext cx="1847880" cy="2990880"/>
            <a:chOff x="6324480" y="363600"/>
            <a:chExt cx="1847880" cy="2990880"/>
          </a:xfrm>
        </p:grpSpPr>
        <p:pic>
          <p:nvPicPr>
            <p:cNvPr id="198" name="Picture 8" descr="ANd9GcSfEXH8vtx6FsHO7d1bQULH4wXwT5bi_9SXUCm3AxatS6jRUnqdbQ"/>
            <p:cNvPicPr/>
            <p:nvPr/>
          </p:nvPicPr>
          <p:blipFill>
            <a:blip r:embed="rId2"/>
            <a:stretch/>
          </p:blipFill>
          <p:spPr>
            <a:xfrm>
              <a:off x="6324480" y="363600"/>
              <a:ext cx="184788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9"/>
            <p:cNvSpPr/>
            <p:nvPr/>
          </p:nvSpPr>
          <p:spPr>
            <a:xfrm>
              <a:off x="6444360" y="29862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ctu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429000" y="1257480"/>
            <a:ext cx="2514600" cy="2114280"/>
            <a:chOff x="3429000" y="1257480"/>
            <a:chExt cx="2514600" cy="2114280"/>
          </a:xfrm>
        </p:grpSpPr>
        <p:pic>
          <p:nvPicPr>
            <p:cNvPr id="201" name="Picture 11" descr="ANd9GcTvnoizojdCCCQRd77AnfDAq-Efe8zkbDwQQ9veluleI80skH2GlYfC2wiSIg"/>
            <p:cNvPicPr/>
            <p:nvPr/>
          </p:nvPicPr>
          <p:blipFill>
            <a:blip r:embed="rId3"/>
            <a:stretch/>
          </p:blipFill>
          <p:spPr>
            <a:xfrm>
              <a:off x="3429000" y="1257480"/>
              <a:ext cx="2514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2"/>
            <p:cNvSpPr/>
            <p:nvPr/>
          </p:nvSpPr>
          <p:spPr>
            <a:xfrm>
              <a:off x="3863520" y="300348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2819520"/>
            <a:ext cx="3207960" cy="2120760"/>
            <a:chOff x="533520" y="2819520"/>
            <a:chExt cx="3207960" cy="2120760"/>
          </a:xfrm>
        </p:grpSpPr>
        <p:pic>
          <p:nvPicPr>
            <p:cNvPr id="204" name="Picture 14" descr="ANd9GcShvAjoUkJ5ggbR8a5fAas4f9JuzcqQrXoktPKXyKtQeUjY1fI6UQ"/>
            <p:cNvPicPr/>
            <p:nvPr/>
          </p:nvPicPr>
          <p:blipFill>
            <a:blip r:embed="rId4"/>
            <a:stretch/>
          </p:blipFill>
          <p:spPr>
            <a:xfrm>
              <a:off x="533520" y="2819520"/>
              <a:ext cx="2600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5"/>
            <p:cNvSpPr/>
            <p:nvPr/>
          </p:nvSpPr>
          <p:spPr>
            <a:xfrm>
              <a:off x="776520" y="4572000"/>
              <a:ext cx="296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rattle snake in the sand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6" name="Text Box 16"/>
          <p:cNvSpPr/>
          <p:nvPr/>
        </p:nvSpPr>
        <p:spPr>
          <a:xfrm>
            <a:off x="1981080" y="4876920"/>
            <a:ext cx="2916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 Amer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uth Ame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undra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1981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undra is col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ittle rai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re is a certain size in the popul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3049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where by Can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ss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600200"/>
            <a:ext cx="2400480" cy="2381400"/>
            <a:chOff x="914400" y="1600200"/>
            <a:chExt cx="2400480" cy="2381400"/>
          </a:xfrm>
        </p:grpSpPr>
        <p:pic>
          <p:nvPicPr>
            <p:cNvPr id="211" name="Picture 6" descr="ANd9GcTQbIPmbJe10GIcNDImMNjYKyTm8vBEE0DkWOidQRxN4NIT4bF70w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2400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7"/>
            <p:cNvSpPr/>
            <p:nvPr/>
          </p:nvSpPr>
          <p:spPr>
            <a:xfrm>
              <a:off x="1081080" y="3613320"/>
              <a:ext cx="13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usk oxe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48320" y="1905120"/>
            <a:ext cx="2657520" cy="2305080"/>
            <a:chOff x="4648320" y="1905120"/>
            <a:chExt cx="2657520" cy="2305080"/>
          </a:xfrm>
        </p:grpSpPr>
        <p:pic>
          <p:nvPicPr>
            <p:cNvPr id="214" name="Picture 9" descr="ANd9GcQWfSAM47gRtqFJRmvKW_PuC20R8IITP1ER_7VoMMdi-h4DQ98f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265752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2"/>
            <p:cNvSpPr/>
            <p:nvPr/>
          </p:nvSpPr>
          <p:spPr>
            <a:xfrm>
              <a:off x="4829760" y="3841920"/>
              <a:ext cx="11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rtic wol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400880" y="1905120"/>
            <a:ext cx="1743120" cy="2990880"/>
            <a:chOff x="7400880" y="1905120"/>
            <a:chExt cx="1743120" cy="2990880"/>
          </a:xfrm>
        </p:grpSpPr>
        <p:pic>
          <p:nvPicPr>
            <p:cNvPr id="217" name="Picture 11" descr="ANd9GcQLtZyf_Bsk8v28Pp_3TIdMwc0PyVl6g5dxED-XCx_oqjsWCczMow"/>
            <p:cNvPicPr/>
            <p:nvPr/>
          </p:nvPicPr>
          <p:blipFill>
            <a:blip r:embed="rId3"/>
            <a:stretch/>
          </p:blipFill>
          <p:spPr>
            <a:xfrm>
              <a:off x="7400880" y="1905120"/>
              <a:ext cx="174312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3"/>
            <p:cNvSpPr/>
            <p:nvPr/>
          </p:nvSpPr>
          <p:spPr>
            <a:xfrm>
              <a:off x="7649280" y="452772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ribou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38280" y="4038480"/>
            <a:ext cx="2467080" cy="2349720"/>
            <a:chOff x="2438280" y="4038480"/>
            <a:chExt cx="2467080" cy="2349720"/>
          </a:xfrm>
        </p:grpSpPr>
        <p:pic>
          <p:nvPicPr>
            <p:cNvPr id="220" name="Picture 15" descr="ANd9GcQZ0VBbKjzJRg6tn6Ej_7EUyck87ZizbKnCD9WxAc3eCl8i_UnMzQ"/>
            <p:cNvPicPr/>
            <p:nvPr/>
          </p:nvPicPr>
          <p:blipFill>
            <a:blip r:embed="rId4"/>
            <a:stretch/>
          </p:blipFill>
          <p:spPr>
            <a:xfrm>
              <a:off x="2438280" y="40384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6"/>
            <p:cNvSpPr/>
            <p:nvPr/>
          </p:nvSpPr>
          <p:spPr>
            <a:xfrm>
              <a:off x="3027960" y="601992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alru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opical  Rainfore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0" y="3733560"/>
            <a:ext cx="2286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opical rainforest have dozens of flow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y have dozens of animals to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insects are in 1 tre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2133720"/>
            <a:ext cx="2552760" cy="2197080"/>
            <a:chOff x="838080" y="2133720"/>
            <a:chExt cx="2552760" cy="2197080"/>
          </a:xfrm>
        </p:grpSpPr>
        <p:pic>
          <p:nvPicPr>
            <p:cNvPr id="225" name="Picture 5" descr="ANd9GcTSbPhZmWnHfC8dT7IzLSR1XCIu0zIvN37VFCWoRTuqin6Wq_FOXg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25527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"/>
            <p:cNvSpPr/>
            <p:nvPr/>
          </p:nvSpPr>
          <p:spPr>
            <a:xfrm>
              <a:off x="1413000" y="39625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arro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086600" y="228600"/>
            <a:ext cx="1846080" cy="2273400"/>
            <a:chOff x="7086600" y="228600"/>
            <a:chExt cx="1846080" cy="2273400"/>
          </a:xfrm>
        </p:grpSpPr>
        <p:pic>
          <p:nvPicPr>
            <p:cNvPr id="228" name="Picture 8" descr="ANd9GcSVo8lNZBrTuRLczzCNRuyC3i9COU67Zq8eZanBS-N_9xp86ep1"/>
            <p:cNvPicPr/>
            <p:nvPr/>
          </p:nvPicPr>
          <p:blipFill>
            <a:blip r:embed="rId2"/>
            <a:stretch/>
          </p:blipFill>
          <p:spPr>
            <a:xfrm>
              <a:off x="7086600" y="228600"/>
              <a:ext cx="18288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9"/>
            <p:cNvSpPr/>
            <p:nvPr/>
          </p:nvSpPr>
          <p:spPr>
            <a:xfrm>
              <a:off x="7179120" y="213372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oller monke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81280" y="1219320"/>
            <a:ext cx="1781280" cy="2914560"/>
            <a:chOff x="3581280" y="1219320"/>
            <a:chExt cx="1781280" cy="2914560"/>
          </a:xfrm>
        </p:grpSpPr>
        <p:pic>
          <p:nvPicPr>
            <p:cNvPr id="231" name="Picture 11" descr="ANd9GcR5KcZXoHnkxiqNgYafWT80FmwKJYcpWzpF7GyGEDZeffb7LkHr"/>
            <p:cNvPicPr/>
            <p:nvPr/>
          </p:nvPicPr>
          <p:blipFill>
            <a:blip r:embed="rId3"/>
            <a:stretch/>
          </p:blipFill>
          <p:spPr>
            <a:xfrm>
              <a:off x="3581280" y="1219320"/>
              <a:ext cx="178128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2"/>
            <p:cNvSpPr/>
            <p:nvPr/>
          </p:nvSpPr>
          <p:spPr>
            <a:xfrm>
              <a:off x="3714840" y="37656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Jagua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66880" y="4191120"/>
            <a:ext cx="1440360" cy="2457360"/>
            <a:chOff x="2666880" y="4191120"/>
            <a:chExt cx="1440360" cy="2457360"/>
          </a:xfrm>
        </p:grpSpPr>
        <p:pic>
          <p:nvPicPr>
            <p:cNvPr id="234" name="Picture 14" descr="ANd9GcSWfrUkY7NWD5dKedNqOLQfi3v1YIPhdnvKmC1bnvopB4LHsPu8Z5PmWt0"/>
            <p:cNvPicPr/>
            <p:nvPr/>
          </p:nvPicPr>
          <p:blipFill>
            <a:blip r:embed="rId4"/>
            <a:stretch/>
          </p:blipFill>
          <p:spPr>
            <a:xfrm>
              <a:off x="2666880" y="4191120"/>
              <a:ext cx="134460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5"/>
            <p:cNvSpPr/>
            <p:nvPr/>
          </p:nvSpPr>
          <p:spPr>
            <a:xfrm>
              <a:off x="2685960" y="62802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pe/gorilla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5128920" y="4451400"/>
            <a:ext cx="18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ion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uth Amer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r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tlan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123720" y="1295280"/>
            <a:ext cx="266724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wgrass can grow 3 meters t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wetland is mostly covered with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t marshes help protect  wet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93840" y="31078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4560" y="3429000"/>
            <a:ext cx="36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7136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284560" y="3429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58508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2193840" y="31078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3520" y="457200"/>
            <a:ext cx="2390760" cy="2305080"/>
            <a:chOff x="533520" y="457200"/>
            <a:chExt cx="2390760" cy="2305080"/>
          </a:xfrm>
        </p:grpSpPr>
        <p:pic>
          <p:nvPicPr>
            <p:cNvPr id="244" name="Picture 42" descr="ANd9GcTbB2pNiFhRR2FMxWZiECSGUSVO5biy4EnDL7uF0kHXx6mqcg2R9Q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3"/>
            <p:cNvSpPr/>
            <p:nvPr/>
          </p:nvSpPr>
          <p:spPr>
            <a:xfrm>
              <a:off x="949320" y="23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rt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Text Box 44"/>
          <p:cNvSpPr/>
          <p:nvPr/>
        </p:nvSpPr>
        <p:spPr>
          <a:xfrm>
            <a:off x="6205680" y="2590920"/>
            <a:ext cx="257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Zeal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019920" y="990720"/>
            <a:ext cx="1714320" cy="1542960"/>
            <a:chOff x="6019920" y="990720"/>
            <a:chExt cx="1714320" cy="1542960"/>
          </a:xfrm>
        </p:grpSpPr>
        <p:pic>
          <p:nvPicPr>
            <p:cNvPr id="248" name="Picture 39" descr="ANd9GcTUmqj_SEcq_KSk8Py66r_pk3otC9kViyCVsiXOoXuFh_OTXnLsx3Usc2EG"/>
            <p:cNvPicPr/>
            <p:nvPr/>
          </p:nvPicPr>
          <p:blipFill>
            <a:blip r:embed="rId2"/>
            <a:stretch/>
          </p:blipFill>
          <p:spPr>
            <a:xfrm>
              <a:off x="6019920" y="990720"/>
              <a:ext cx="1714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9"/>
            <p:cNvSpPr/>
            <p:nvPr/>
          </p:nvSpPr>
          <p:spPr>
            <a:xfrm>
              <a:off x="6366240" y="216540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eave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410080" y="4191120"/>
            <a:ext cx="2495520" cy="2152440"/>
            <a:chOff x="5410080" y="4191120"/>
            <a:chExt cx="2495520" cy="2152440"/>
          </a:xfrm>
        </p:grpSpPr>
        <p:pic>
          <p:nvPicPr>
            <p:cNvPr id="251" name="Picture 51" descr="ANd9GcQGinrCcWdLdbloC2WyZLbI_Eu0kkCa4Iee6VyOqS-EDFoONbbOng"/>
            <p:cNvPicPr/>
            <p:nvPr/>
          </p:nvPicPr>
          <p:blipFill>
            <a:blip r:embed="rId3"/>
            <a:stretch/>
          </p:blipFill>
          <p:spPr>
            <a:xfrm>
              <a:off x="5410080" y="4191120"/>
              <a:ext cx="2495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52"/>
            <p:cNvSpPr/>
            <p:nvPr/>
          </p:nvSpPr>
          <p:spPr>
            <a:xfrm>
              <a:off x="6139440" y="597528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te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600" y="3048120"/>
            <a:ext cx="2619360" cy="2076480"/>
            <a:chOff x="228600" y="3048120"/>
            <a:chExt cx="2619360" cy="2076480"/>
          </a:xfrm>
        </p:grpSpPr>
        <p:pic>
          <p:nvPicPr>
            <p:cNvPr id="254" name="Picture 46" descr="ANd9GcQRnkGLnmwx7P51-GprnpoH_q3LZu9yIsm-4OJ4UWbtlniJKCBy"/>
            <p:cNvPicPr/>
            <p:nvPr/>
          </p:nvPicPr>
          <p:blipFill>
            <a:blip r:embed="rId4"/>
            <a:stretch/>
          </p:blipFill>
          <p:spPr>
            <a:xfrm>
              <a:off x="228600" y="30481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53"/>
            <p:cNvSpPr/>
            <p:nvPr/>
          </p:nvSpPr>
          <p:spPr>
            <a:xfrm>
              <a:off x="956160" y="47563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uc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es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38320" y="533160"/>
            <a:ext cx="29718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es save food and water in the win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forest have maple , oak ,and elm tr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w predato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00640" y="490680"/>
            <a:ext cx="187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st of the u.s.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e 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7200" y="1600200"/>
            <a:ext cx="1476360" cy="2685960"/>
            <a:chOff x="457200" y="1600200"/>
            <a:chExt cx="1476360" cy="2685960"/>
          </a:xfrm>
        </p:grpSpPr>
        <p:pic>
          <p:nvPicPr>
            <p:cNvPr id="260" name="Picture 6" descr="ANd9GcR8aWo7jv6TqEx814548n4uT6Ex6VS-O5delZEbUFm1ojYAr-6A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14763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1"/>
            <p:cNvSpPr/>
            <p:nvPr/>
          </p:nvSpPr>
          <p:spPr>
            <a:xfrm>
              <a:off x="572760" y="391788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ag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819520" y="1752480"/>
            <a:ext cx="2324160" cy="2381400"/>
            <a:chOff x="2819520" y="1752480"/>
            <a:chExt cx="2324160" cy="2381400"/>
          </a:xfrm>
        </p:grpSpPr>
        <p:pic>
          <p:nvPicPr>
            <p:cNvPr id="263" name="Picture 8" descr="hares_animals-you-luckily-meet-ukrainian-forest"/>
            <p:cNvPicPr/>
            <p:nvPr/>
          </p:nvPicPr>
          <p:blipFill>
            <a:blip r:embed="rId2"/>
            <a:stretch/>
          </p:blipFill>
          <p:spPr>
            <a:xfrm>
              <a:off x="2819520" y="1752480"/>
              <a:ext cx="2324160" cy="20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2"/>
            <p:cNvSpPr/>
            <p:nvPr/>
          </p:nvSpPr>
          <p:spPr>
            <a:xfrm>
              <a:off x="3309120" y="37656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bbi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95880" y="3581280"/>
            <a:ext cx="2390760" cy="2305080"/>
            <a:chOff x="6095880" y="3581280"/>
            <a:chExt cx="2390760" cy="2305080"/>
          </a:xfrm>
        </p:grpSpPr>
        <p:pic>
          <p:nvPicPr>
            <p:cNvPr id="266" name="Picture 10" descr="ANd9GcTaWCFYWECHep0qDd7DYOTF6Notub619tvHmxG1m69JcrM4I7xnDw"/>
            <p:cNvPicPr/>
            <p:nvPr/>
          </p:nvPicPr>
          <p:blipFill>
            <a:blip r:embed="rId3"/>
            <a:stretch/>
          </p:blipFill>
          <p:spPr>
            <a:xfrm>
              <a:off x="6095880" y="358128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3"/>
            <p:cNvSpPr/>
            <p:nvPr/>
          </p:nvSpPr>
          <p:spPr>
            <a:xfrm>
              <a:off x="6108840" y="5518080"/>
              <a:ext cx="12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hipmun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371600" y="4343400"/>
            <a:ext cx="2467080" cy="2228760"/>
            <a:chOff x="1371600" y="4343400"/>
            <a:chExt cx="2467080" cy="2228760"/>
          </a:xfrm>
        </p:grpSpPr>
        <p:pic>
          <p:nvPicPr>
            <p:cNvPr id="269" name="Picture 15" descr="ANd9GcTN1jP2h11wxFUA8EGACubp-cy8ItvJDzO7qm-rkGhdENqdiDvuDA"/>
            <p:cNvPicPr/>
            <p:nvPr/>
          </p:nvPicPr>
          <p:blipFill>
            <a:blip r:embed="rId4"/>
            <a:stretch/>
          </p:blipFill>
          <p:spPr>
            <a:xfrm>
              <a:off x="1371600" y="43434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6"/>
            <p:cNvSpPr/>
            <p:nvPr/>
          </p:nvSpPr>
          <p:spPr>
            <a:xfrm>
              <a:off x="2073600" y="620388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rcupin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1:52Z</dcterms:created>
  <dc:creator>TH3541</dc:creator>
  <dc:description/>
  <dc:language>en-US</dc:language>
  <cp:lastModifiedBy>TH3541</cp:lastModifiedBy>
  <dcterms:modified xsi:type="dcterms:W3CDTF">2012-11-12T19:50:13Z</dcterms:modified>
  <cp:revision>12</cp:revision>
  <dc:subject/>
  <dc:title>Grassland Biomes</dc:title>
</cp:coreProperties>
</file>